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D8F8-F632-44B1-BAEB-C298CF77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ACCF-1A30-4E3F-A194-0E288377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0AB-7236-41D9-BEC1-A6BB4E89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1C9-FC18-4422-9831-B8D03893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D14-F001-435A-8D0B-86F702D3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CE6-A155-40B2-830A-0872302E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DB2-4E35-4A10-8737-F3B9D52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740-56D2-4050-A0E1-B6AC311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348-DAA4-460D-ABFA-808EA176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CF8-294B-4CA0-A49C-CA6077B6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E0F-04FB-4C66-A6F5-EE79CB7B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A09-54B2-4C4C-A6DD-1BAFD17D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BE1-99EC-42AD-971E-A64D9C6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E22-4C5B-410E-8A47-1669C378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97A6-A39C-45F1-A5B2-C9F2010E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aniela Tori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yo me llamo Daniel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Yo  vivo en New York. Yo tengo 14 años. Y tengo dos hermanos un hermano y una hermana. Yo soy una niña y me gusto 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2:03Z</dcterms:modified>
  <cp:revision>99</cp:revision>
  <dc:subject/>
  <dc:title>Profile</dc:title>
</cp:coreProperties>
</file>